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778-EF9F-481D-ABEA-B48B4C1A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A8F-F32D-4687-ACBD-958F9E9E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D12-C312-4B10-B42E-AD8F73A07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570-0DFD-4D10-B082-34DFF417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5BC7-C7BE-4FF1-881D-5F2AA908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38F-5A7D-43D1-8496-CA400EC5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B5E3-0E3C-45FA-B7A8-C3F15CEF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498D-EF89-41C4-B85E-AE7B1D88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48D-D7C6-4A5C-9EFD-56F287B95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138-E408-431B-85B1-C514AB58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F4BD-9C49-459B-9DB2-19CA0641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C31A-73F8-4CF9-82E1-20FAD81D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588-F091-4D6A-9485-2F4D2652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0D37-2FDA-4A65-9406-0144905C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7EFF-7FBB-4613-B712-E54F3BCB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25D-32C5-4FE6-A28F-1EBB9801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A9D6-5900-49B5-9DB9-61C1B8FA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75F-C9D6-4356-9088-E317AF13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356-3621-4EF6-8B09-DC96159B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B986-2326-4A0E-9EF7-58650F18A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486-F39A-4752-8A9D-8BEADBF9B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E0B-DF81-4B5D-A339-652D2C40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63F4-EC22-45B9-AE84-D888E710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097-67C6-40BA-9B0A-56C0C950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CDE-27FC-42CD-9555-2E50FD36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C6A6-95E4-4792-B1E3-79AAA5E5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A71-97AF-4D36-9164-A52B950A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4D37-BCE3-439F-80A3-9B096B91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C07-2007-4F21-8D51-A52486A23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BB2-FB9F-4169-8B58-036A7D29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9D8-FE18-4DC3-B9C5-631FDBBEC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C70-CFBB-4086-9AEC-589145B1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C47-74E5-4BEB-AC03-DE9D05BB3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189-703E-4C69-8412-B2FECEA2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9F4-A63A-468B-9C9A-D089169E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A70-12E3-4943-A7E0-8647435E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40A-8E67-4115-A7D6-C8EA0DFA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981-CBF2-4133-A56B-DFCFEFA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ADC-2F75-4691-8B76-965370B5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551-4AC9-45A2-8B4B-EDFF64C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FC0-2302-4818-9AE2-F97BC9E4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414-1354-44B1-B742-24C0A427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5AF-FE54-42A8-994F-71B3281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D50-8574-4486-8537-00E5DEAA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920-183B-4F89-9396-0A2DB8A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55BD-E42B-42BC-A451-42CFEFBD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eserts"/>
          <p:cNvPicPr/>
          <p:nvPr/>
        </p:nvPicPr>
        <p:blipFill>
          <a:blip r:embed="rId1"/>
          <a:stretch/>
        </p:blipFill>
        <p:spPr>
          <a:xfrm>
            <a:off x="533520" y="588960"/>
            <a:ext cx="7315200" cy="51404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eserts1"/>
          <p:cNvPicPr/>
          <p:nvPr/>
        </p:nvPicPr>
        <p:blipFill>
          <a:blip r:embed="rId1"/>
          <a:stretch/>
        </p:blipFill>
        <p:spPr>
          <a:xfrm>
            <a:off x="838080" y="488880"/>
            <a:ext cx="7696440" cy="5710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0" y="4572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d_30768n"/>
          <p:cNvPicPr/>
          <p:nvPr/>
        </p:nvPicPr>
        <p:blipFill>
          <a:blip r:embed="rId1"/>
          <a:stretch/>
        </p:blipFill>
        <p:spPr>
          <a:xfrm>
            <a:off x="609480" y="990720"/>
            <a:ext cx="3475080" cy="53496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desert-animal_187"/>
          <p:cNvPicPr/>
          <p:nvPr/>
        </p:nvPicPr>
        <p:blipFill>
          <a:blip r:embed="rId1"/>
          <a:stretch/>
        </p:blipFill>
        <p:spPr>
          <a:xfrm>
            <a:off x="609480" y="814320"/>
            <a:ext cx="8001000" cy="5180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yote2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rattle"/>
          <p:cNvPicPr/>
          <p:nvPr/>
        </p:nvPicPr>
        <p:blipFill>
          <a:blip r:embed="rId1"/>
          <a:stretch/>
        </p:blipFill>
        <p:spPr>
          <a:xfrm>
            <a:off x="3354480" y="588960"/>
            <a:ext cx="24350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aracal2"/>
          <p:cNvPicPr/>
          <p:nvPr/>
        </p:nvPicPr>
        <p:blipFill>
          <a:blip r:embed="rId1"/>
          <a:stretch/>
        </p:blipFill>
        <p:spPr>
          <a:xfrm>
            <a:off x="2895480" y="304920"/>
            <a:ext cx="4430880" cy="6324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esert-animals"/>
          <p:cNvPicPr/>
          <p:nvPr/>
        </p:nvPicPr>
        <p:blipFill>
          <a:blip r:embed="rId1"/>
          <a:stretch/>
        </p:blipFill>
        <p:spPr>
          <a:xfrm>
            <a:off x="1353960" y="228600"/>
            <a:ext cx="5753160" cy="6222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kingsnake"/>
          <p:cNvPicPr/>
          <p:nvPr/>
        </p:nvPicPr>
        <p:blipFill>
          <a:blip r:embed="rId1"/>
          <a:stretch/>
        </p:blipFill>
        <p:spPr>
          <a:xfrm>
            <a:off x="1200240" y="725400"/>
            <a:ext cx="6743520" cy="5407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ant_07"/>
          <p:cNvPicPr/>
          <p:nvPr/>
        </p:nvPicPr>
        <p:blipFill>
          <a:blip r:embed="rId1"/>
          <a:stretch/>
        </p:blipFill>
        <p:spPr>
          <a:xfrm>
            <a:off x="990720" y="7430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100-0069_IMG"/>
          <p:cNvPicPr/>
          <p:nvPr/>
        </p:nvPicPr>
        <p:blipFill>
          <a:blip r:embed="rId1"/>
          <a:stretch/>
        </p:blipFill>
        <p:spPr>
          <a:xfrm>
            <a:off x="762120" y="1752480"/>
            <a:ext cx="7578720" cy="4821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Verdana"/>
              </a:rPr>
              <a:t>Sand Dunes. Sossusvlei. Namib-Naukluft National Park. Namibia</a:t>
            </a:r>
            <a:r>
              <a:rPr b="0" lang="en-US" sz="4400" spc="-1" strike="noStrike">
                <a:solidFill>
                  <a:srgbClr val="666666"/>
                </a:solidFill>
                <a:latin typeface="Verdan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2_high_1_84379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3735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ferocactus_wislizenii"/>
          <p:cNvPicPr/>
          <p:nvPr/>
        </p:nvPicPr>
        <p:blipFill>
          <a:blip r:embed="rId1"/>
          <a:stretch/>
        </p:blipFill>
        <p:spPr>
          <a:xfrm>
            <a:off x="1066680" y="98280"/>
            <a:ext cx="7239240" cy="6458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saguago2"/>
          <p:cNvPicPr/>
          <p:nvPr/>
        </p:nvPicPr>
        <p:blipFill>
          <a:blip r:embed="rId1"/>
          <a:stretch/>
        </p:blipFill>
        <p:spPr>
          <a:xfrm>
            <a:off x="2228760" y="38088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athedralRock"/>
          <p:cNvPicPr/>
          <p:nvPr/>
        </p:nvPicPr>
        <p:blipFill>
          <a:blip r:embed="rId1"/>
          <a:stretch/>
        </p:blipFill>
        <p:spPr>
          <a:xfrm>
            <a:off x="2209680" y="152280"/>
            <a:ext cx="4408560" cy="6629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tolLvsGMNPME03"/>
          <p:cNvPicPr/>
          <p:nvPr/>
        </p:nvPicPr>
        <p:blipFill>
          <a:blip r:embed="rId1"/>
          <a:stretch/>
        </p:blipFill>
        <p:spPr>
          <a:xfrm>
            <a:off x="782640" y="588960"/>
            <a:ext cx="75787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saguaro"/>
          <p:cNvPicPr/>
          <p:nvPr/>
        </p:nvPicPr>
        <p:blipFill>
          <a:blip r:embed="rId1"/>
          <a:stretch/>
        </p:blipFill>
        <p:spPr>
          <a:xfrm>
            <a:off x="2593800" y="304920"/>
            <a:ext cx="4005360" cy="6172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actflow"/>
          <p:cNvPicPr/>
          <p:nvPr/>
        </p:nvPicPr>
        <p:blipFill>
          <a:blip r:embed="rId1"/>
          <a:stretch/>
        </p:blipFill>
        <p:spPr>
          <a:xfrm>
            <a:off x="304920" y="73656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hilops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esert-plant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OCC_lupine1"/>
          <p:cNvPicPr/>
          <p:nvPr/>
        </p:nvPicPr>
        <p:blipFill>
          <a:blip r:embed="rId1"/>
          <a:stretch/>
        </p:blipFill>
        <p:spPr>
          <a:xfrm>
            <a:off x="2440080" y="588960"/>
            <a:ext cx="426384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paloverde"/>
          <p:cNvPicPr/>
          <p:nvPr/>
        </p:nvPicPr>
        <p:blipFill>
          <a:blip r:embed="rId1"/>
          <a:stretch/>
        </p:blipFill>
        <p:spPr>
          <a:xfrm>
            <a:off x="838080" y="63036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fornia 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Desert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eser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featherdusters"/>
          <p:cNvPicPr/>
          <p:nvPr/>
        </p:nvPicPr>
        <p:blipFill>
          <a:blip r:embed="rId1"/>
          <a:stretch/>
        </p:blipFill>
        <p:spPr>
          <a:xfrm>
            <a:off x="685800" y="41292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aguaronpdeserthabit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" descr="desert"/>
          <p:cNvPicPr/>
          <p:nvPr/>
        </p:nvPicPr>
        <p:blipFill>
          <a:blip r:embed="rId1"/>
          <a:stretch/>
        </p:blipFill>
        <p:spPr>
          <a:xfrm>
            <a:off x="533520" y="557280"/>
            <a:ext cx="8001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493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446120" y="1063800"/>
            <a:ext cx="4364280" cy="6120"/>
            <a:chOff x="1446120" y="1063800"/>
            <a:chExt cx="4364280" cy="6120"/>
          </a:xfrm>
        </p:grpSpPr>
        <p:grpSp>
          <p:nvGrpSpPr>
            <p:cNvPr id="60" name="Group 18"/>
            <p:cNvGrpSpPr/>
            <p:nvPr/>
          </p:nvGrpSpPr>
          <p:grpSpPr>
            <a:xfrm>
              <a:off x="1449360" y="1066680"/>
              <a:ext cx="4357800" cy="360"/>
              <a:chOff x="1449360" y="1066680"/>
              <a:chExt cx="4357800" cy="360"/>
            </a:xfrm>
          </p:grpSpPr>
          <p:sp>
            <p:nvSpPr>
              <p:cNvPr id="61" name="Rectangle 17"/>
              <p:cNvSpPr/>
              <p:nvPr/>
            </p:nvSpPr>
            <p:spPr>
              <a:xfrm>
                <a:off x="1449360" y="1066680"/>
                <a:ext cx="4357800" cy="3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16"/>
              <p:cNvGrpSpPr/>
              <p:nvPr/>
            </p:nvGrpSpPr>
            <p:grpSpPr>
              <a:xfrm>
                <a:off x="1449360" y="1066680"/>
                <a:ext cx="4357800" cy="360"/>
                <a:chOff x="1449360" y="1066680"/>
                <a:chExt cx="4357800" cy="36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5"/>
                <p:cNvSpPr/>
                <p:nvPr/>
              </p:nvSpPr>
              <p:spPr>
                <a:xfrm>
                  <a:off x="1449360" y="1066680"/>
                  <a:ext cx="43578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" name="Rectangle 19"/>
            <p:cNvSpPr/>
            <p:nvPr/>
          </p:nvSpPr>
          <p:spPr>
            <a:xfrm>
              <a:off x="1446120" y="1063800"/>
              <a:ext cx="4364280" cy="61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7" descr="desert view with spires Monument Valley"/>
          <p:cNvPicPr/>
          <p:nvPr/>
        </p:nvPicPr>
        <p:blipFill>
          <a:blip r:embed="rId1"/>
          <a:stretch/>
        </p:blipFill>
        <p:spPr>
          <a:xfrm>
            <a:off x="1617840" y="1112760"/>
            <a:ext cx="6080040" cy="4068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esert5"/>
          <p:cNvPicPr/>
          <p:nvPr/>
        </p:nvPicPr>
        <p:blipFill>
          <a:blip r:embed="rId1"/>
          <a:stretch/>
        </p:blipFill>
        <p:spPr>
          <a:xfrm>
            <a:off x="457200" y="1279440"/>
            <a:ext cx="8077320" cy="4740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geog2"/>
          <p:cNvPicPr/>
          <p:nvPr/>
        </p:nvPicPr>
        <p:blipFill>
          <a:blip r:embed="rId1"/>
          <a:stretch/>
        </p:blipFill>
        <p:spPr>
          <a:xfrm>
            <a:off x="2247840" y="533520"/>
            <a:ext cx="4849920" cy="55623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Deserts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desert1"/>
          <p:cNvPicPr/>
          <p:nvPr/>
        </p:nvPicPr>
        <p:blipFill>
          <a:blip r:embed="rId1"/>
          <a:stretch/>
        </p:blipFill>
        <p:spPr>
          <a:xfrm>
            <a:off x="1663560" y="588960"/>
            <a:ext cx="5818320" cy="56800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26:24Z</dcterms:created>
  <dc:creator>Romona Hunt</dc:creator>
  <dc:description/>
  <dc:language>en-US</dc:language>
  <cp:lastModifiedBy>Laura McDow</cp:lastModifiedBy>
  <dcterms:modified xsi:type="dcterms:W3CDTF">2010-09-02T15:31:31Z</dcterms:modified>
  <cp:revision>4</cp:revision>
  <dc:subject/>
  <dc:title>PowerPoint Presentation</dc:title>
</cp:coreProperties>
</file>